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4DB-9C7D-4C7C-B958-C1A53492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AE9-9484-4BB1-BCD3-984BE779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9B5A-FCD7-4D67-A6B7-E09A0577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C5F8-177C-4007-8F54-6B8D226E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F4D5-AA4C-44F1-9900-B1FF09CD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12E4-2808-4A60-A537-54C761E8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17C8-FE8E-4DBF-A7F5-F5A261D6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7735-8203-4371-B6C2-0A4EE9DE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710A-76ED-4989-B959-DD2EC7D6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0CCE-BE89-4E71-8577-0E7617AD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09B7-5A89-40F9-B186-F9428B80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6722-F39C-48E0-B4F1-E4261361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9D05-68E2-474F-AB0F-03D1536B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A132-A8E1-4EFA-BC9F-3BA59F8E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59AA-3E84-4C16-8284-8E540DA5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BF73-ED26-460D-A4B1-695E242A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26F9-CC12-4391-B97B-AF34692C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11F4-5C66-480F-BEA3-8AB5B14C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B7D-B783-40DC-B19E-EB3BFE5A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A531-5E93-497F-8E70-44C4002B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45A7-E1D0-44D2-86F4-60DF50D9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527-1348-4E55-A447-9612F398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9C49-7DBE-4626-AED5-2001788D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CCD-D74F-44EE-85BB-5A67679C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98F1-0DB7-466F-931F-F416867245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9CAE-3C63-4A2F-9A5E-BEECA6A455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846920" cy="28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Θέματα Ομάδας Εφήβων Συμβούλων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Συνήγορου του Παιδιού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9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5280" y="5950080"/>
            <a:ext cx="3132000" cy="67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Η προστασία των παιδιών από την βία,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την κακοποίηση, την παραμέληση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και την εκμετάλλευσ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547560"/>
            <a:ext cx="470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Τρίτη περίοδος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Σεπτέμβριος - Δεκέμβριος 2009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867280" y="6021360"/>
            <a:ext cx="3132360" cy="67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0920" y="549360"/>
            <a:ext cx="69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ΨΥΧΟΛΟΓΙΚΗ ΚΑΙ ΛΕΚΤΙΚΗ ΒΙΑ ΣΤΟ ΣΧΟΛΕΙ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7040" y="5013360"/>
            <a:ext cx="4124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μεταξύ καθηγητών – μαθητών</a:t>
            </a:r>
            <a:br>
              <a:rPr sz="2200"/>
            </a:b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και  </a:t>
            </a:r>
            <a:br>
              <a:rPr sz="2200"/>
            </a:b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μεταξύ μαθητών (bully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5960" y="549360"/>
            <a:ext cx="649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ΙΑ ΚΑΙ ΠΑΡΑΜΕΛΗΣΗ ΣΤΗΝ ΟΙΚΟΓΕΝΕΙ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Η ΠΑΙΔΙΚΗ ΕΡΓΑΣ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διαστρέβλωση, γελοιοποίηση,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η εικόνα των εφήβων και της νέας γενιάς στα Μ.Μ.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2200" y="404640"/>
            <a:ext cx="520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Η BIA ΣΤΑ ΠΑΙΔΙΑ ΑΠΟ ΤΑ Μ.Μ.Ε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640" y="549360"/>
            <a:ext cx="408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Πρώτη περίοδος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Ιανουάριος – Μάρτιος 2009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6040" y="5229360"/>
            <a:ext cx="62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Τα δικαιώματα έκφρασης και συμμετοχή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651640" y="5950080"/>
            <a:ext cx="3132000" cy="67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σχολικοί κανονισμοί, μαθητικά συμβούλια,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επικοινωνία και σχέσεις με καθηγητές, επιλογή μαθημάτων, επιβολή τιμωριών, αξιολόγηση βιβλίων και καθηγητώ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160" y="476280"/>
            <a:ext cx="85489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ΤΟ ΔΙΚΑΙΩΜΑ ΕΚΦΡΑΣΗΣ ΤΗΣ ΓΝΩΜΗΣ ΤΩΝ ΜΑΘΗΤΩ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ΤΑ ΣΧΟΛΕ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σεβασμός από και προς τους γονείς, επικοινωνία, καθημερινότητα, ελεύθερος χρόνος, εμφάνιση, μέλλον, </a:t>
            </a:r>
            <a:br>
              <a:rPr sz="2200"/>
            </a:b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αλλαγές περιβάλλοντος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2000" y="620640"/>
            <a:ext cx="799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ΤΟ ΔΙΚΑΙΩΜΑ ΕΚΦΡΑΣΗΣ ΚΑΙ Η ΕΛΕΥΘΕΡΙΑ ΛΟΓΟ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ΣΤΗΝ ΟΙΚΟΓΕΝΕ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για την ποιότητα ζωής, το περιβάλλον, </a:t>
            </a:r>
            <a:br>
              <a:rPr sz="2200"/>
            </a:b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τους νόμους που ψηφίζονται και αφορούν τα παιδιά, κλπ. </a:t>
            </a:r>
            <a:br>
              <a:rPr sz="2200"/>
            </a:b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ο ρόλος των τοπικών συμβουλίων νέων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6160" y="549360"/>
            <a:ext cx="63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ΠΩΣ ΑΚΟΥΓΕΤΑΙ Η ΓΝΩΜΗ ΤΩΝ ΠΑΙΔΙΩ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ΣΤΗΝ ΚΟΙΝΩΝΙΑ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738360"/>
            <a:ext cx="3952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Δεύτερη περίοδος: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Απρίλιος – Ιούλιος 2009</a:t>
            </a:r>
            <a:br>
              <a:rPr sz="24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2520" y="2178000"/>
            <a:ext cx="423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Διακρίσεις και ανισότητ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651640" y="5877000"/>
            <a:ext cx="3132000" cy="67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λόγω καταγωγής, εμφάνισης, αναπηρίας, μαθησιακών δυσκολιών, ομοφυλοφιλίας, υποτονικότητας, κ.α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68760" y="476280"/>
            <a:ext cx="66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ΙΑΚΡΙΣΕΙΣ ΚΑΙ ΠΡΟΣΒΟΛΕΣ ΣΤΟ ΣΧΟΛΕΙ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ΣΤΑ ΠΑΙΔΙΑ ΠΟΥ ΔΙΑΦΕΡΟΥ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94600" y="692280"/>
            <a:ext cx="65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Ο ΣΤΙΓΜΑΤΙΣΜΟΣ ΜΕ ΒΑΣΗ ΤΙΣ ΕΠΙΔΟΣΕΙ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ΣΤΗΝ ΕΚΠΑΙΔΕΥ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5084640"/>
            <a:ext cx="33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καλοί και κακοί μαθητέ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3480" y="404640"/>
            <a:ext cx="809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Ο ΚΟΙΝΩΝΙΚΟΣ ΡΑΤΣΙΣΜΟΣ ΣΕ ΒΑΡΟΣ ΤΩΝ ΠΑΙΔΙΩ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ΤΩΝ ΜΕΤΑΝΑΣΤΩΝ ΚΑΙ ΠΑΙΔΙΩΝ ΠΡΟΣΦΥΓΩ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157720"/>
            <a:ext cx="671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Ειδικό θέμα: ΤΑ ΠΑΙΔΙΑ ΠΟΥ ΓΕΝΝΙΟΥΝΤΑΙ ΣΤΗΝ ΕΛΛΑΔΑ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ΛΛΑ ΔΕΝ ΠΑΙΡΟΥΝ ΤΗΝ ΕΛΛΗΝΙΚΗ ΥΠΗΚΟΟΤΗ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8:41:39Z</dcterms:created>
  <dc:creator>Admin</dc:creator>
  <dc:description/>
  <dc:language>en-US</dc:language>
  <cp:lastModifiedBy>George Moschos</cp:lastModifiedBy>
  <dcterms:modified xsi:type="dcterms:W3CDTF">2009-01-30T13:48:05Z</dcterms:modified>
  <cp:revision>95</cp:revision>
  <dc:subject/>
  <dc:title>Άλμπουμ φωτογραφιών</dc:title>
</cp:coreProperties>
</file>